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555-7B0E-438E-BC37-82103713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2AA-7AEE-41D6-9DE0-79749B79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CB4-9827-41F3-BD2A-D46A12F9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E72-5D3A-4F1C-98DF-1D9B3C9C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B79-F5E2-404B-BB6C-D5862EFE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039-5719-4E39-B695-6FD3859C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25E4-F867-42FD-A881-2B71F4B6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E62A-1CC3-458B-95CA-3814B0DA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FDD-EEF3-4872-960F-21178431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F165-DAB0-4CEC-862D-204ED0B8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FFC-3ECF-4B9D-8EE2-84DE71DB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747-0E95-4236-A2ED-B038C3A3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D0A5-5008-4FF2-8594-25BB2FA960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75640" y="491004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762120" y="1371600"/>
            <a:ext cx="792468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file contains the Plenary for this chapter in </a:t>
            </a:r>
            <a:br>
              <a:rPr sz="2000"/>
            </a:b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Physics For Yo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the PowerPoint of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how well they have understood each section of wor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2120" y="5715000"/>
            <a:ext cx="62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29 –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9 :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62120" y="9079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ich waveform is whi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68360" y="1413000"/>
            <a:ext cx="24480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frequency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203640" y="1413000"/>
            <a:ext cx="24480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frequency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68360" y="2349360"/>
            <a:ext cx="24480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requency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203640" y="2349360"/>
            <a:ext cx="24480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requency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5940360" y="1413000"/>
            <a:ext cx="24480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ture of two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5076720" y="4056120"/>
            <a:ext cx="1428840" cy="1295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2"/>
          <a:stretch/>
        </p:blipFill>
        <p:spPr>
          <a:xfrm>
            <a:off x="3564000" y="4056120"/>
            <a:ext cx="142884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3"/>
          <a:stretch/>
        </p:blipFill>
        <p:spPr>
          <a:xfrm>
            <a:off x="539640" y="4056120"/>
            <a:ext cx="142884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4"/>
          <a:stretch/>
        </p:blipFill>
        <p:spPr>
          <a:xfrm>
            <a:off x="6588000" y="4056120"/>
            <a:ext cx="1428840" cy="1305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"/>
          <p:cNvPicPr/>
          <p:nvPr/>
        </p:nvPicPr>
        <p:blipFill>
          <a:blip r:embed="rId5"/>
          <a:stretch/>
        </p:blipFill>
        <p:spPr>
          <a:xfrm>
            <a:off x="2050920" y="4056120"/>
            <a:ext cx="1428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9 :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5076720" y="4056120"/>
            <a:ext cx="142884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3564000" y="4056120"/>
            <a:ext cx="142884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3"/>
          <a:stretch/>
        </p:blipFill>
        <p:spPr>
          <a:xfrm>
            <a:off x="539640" y="4056120"/>
            <a:ext cx="142884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4"/>
          <a:stretch/>
        </p:blipFill>
        <p:spPr>
          <a:xfrm>
            <a:off x="6588000" y="4056120"/>
            <a:ext cx="1428840" cy="130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5"/>
          <a:stretch/>
        </p:blipFill>
        <p:spPr>
          <a:xfrm>
            <a:off x="2050920" y="4056120"/>
            <a:ext cx="1428840" cy="1295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762120" y="9079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ich waveform is whi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68360" y="1413000"/>
            <a:ext cx="24480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frequency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203640" y="1413000"/>
            <a:ext cx="24480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frequency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68360" y="1752480"/>
            <a:ext cx="24480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requency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203640" y="1752480"/>
            <a:ext cx="24480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requency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5940360" y="1413000"/>
            <a:ext cx="24480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ture of two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228600" y="1295280"/>
            <a:ext cx="85345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"/>
          <p:cNvSpPr/>
          <p:nvPr/>
        </p:nvSpPr>
        <p:spPr>
          <a:xfrm>
            <a:off x="1187280" y="34084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"/>
          <p:cNvSpPr/>
          <p:nvPr/>
        </p:nvSpPr>
        <p:spPr>
          <a:xfrm>
            <a:off x="4284720" y="34084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7236000" y="34084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1619280" y="1841400"/>
            <a:ext cx="24480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ture of two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3059280" y="2903400"/>
            <a:ext cx="24476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requency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4643280" y="1841400"/>
            <a:ext cx="24480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requency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6012000" y="2903400"/>
            <a:ext cx="24476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frequency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2838600" y="2684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5"/>
          <p:cNvSpPr/>
          <p:nvPr/>
        </p:nvSpPr>
        <p:spPr>
          <a:xfrm>
            <a:off x="5796000" y="267984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179280" y="2903400"/>
            <a:ext cx="24480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frequency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26T20:18:23Z</dcterms:modified>
  <cp:revision>48</cp:revision>
  <dc:subject>Physics for You Support File</dc:subject>
  <dc:title>Physics for You</dc:title>
</cp:coreProperties>
</file>