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18C-1896-4D95-8A92-7236EBC5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2118-ACA1-4D5E-BD88-BFA778CF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60B5-8D01-4365-A371-FDFE8193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2F53-1406-4C14-8D3C-3063FB37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A65-C11A-40E2-9ADE-747F13D1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0CDB-B745-4060-98F8-5C7B93A1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5517-F111-44DD-8A59-0FEE68B0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5F5-458B-4A08-BC68-3EB304A4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FCD7-6735-41D1-8E59-086BED16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DAA0-CA93-45DF-935E-5BA7B919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5EAD-0E2D-40AD-98BD-F5EB37CA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000-19AA-4B39-8964-A3D16157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E67F-BCF1-44D6-85D2-CAC6711630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8675640" y="4869000"/>
            <a:ext cx="247680" cy="11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1341360"/>
            <a:ext cx="792468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owerPoint file contains some Learning Objectives for this chapter in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hysics For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introducing each lesson with the relevant slide,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slide to summarise at the end of the lesson, you ma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you can tell when to stop clicking, the last line (only)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lide has a full sto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8"/>
          <p:cNvSpPr/>
          <p:nvPr/>
        </p:nvSpPr>
        <p:spPr>
          <a:xfrm>
            <a:off x="762120" y="380880"/>
            <a:ext cx="761976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9 : Sound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Vibrations and wave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9"/>
          <p:cNvSpPr/>
          <p:nvPr/>
        </p:nvSpPr>
        <p:spPr>
          <a:xfrm>
            <a:off x="762120" y="2023920"/>
            <a:ext cx="7772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nd is caused by vib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nd is a longitudinal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nd cannot travel through a vac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eed  =  frequency x wave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762120" y="380880"/>
            <a:ext cx="67053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9 : Sound  2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Echoes, Ears and Ultra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755640" y="2133720"/>
            <a:ext cx="77724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nd can be reflected, we use this to measure distances by ‘echo sounding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measure the speed of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human ear work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its frequency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ultrasound and its 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762120" y="380880"/>
            <a:ext cx="77706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9 : Sound  3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Waveforms, Instruments and Noise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84360" y="1916280"/>
            <a:ext cx="7772400" cy="37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14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problems caused by res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4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nd waves can be seen on a 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4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ave shapes for high / low pitch, and for large / small ampl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4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harmonics affect the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4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udness is measured in decibels (dB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" dur="1" fill="hold"/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8388360" y="2781360"/>
            <a:ext cx="576360" cy="381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29:50Z</dcterms:created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</cp:lastModifiedBy>
  <dcterms:modified xsi:type="dcterms:W3CDTF">2017-04-26T20:15:47Z</dcterms:modified>
  <cp:revision>21</cp:revision>
  <dc:subject>Physics for You Support File</dc:subject>
  <dc:title>Physics for You</dc:title>
</cp:coreProperties>
</file>